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8FC-DBFC-44B2-8C71-3F6BBB13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328-B2AC-4C28-BB35-04947BA7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793-5865-4867-856A-1ACA2F7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CB6-4B52-4163-9B84-FB485973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694-A8FC-4A51-84EB-C77E0503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3E0-C06B-4771-A5A6-AC01DC6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C77-0EB2-42C6-9FC5-20401242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A6E-2561-44EA-93FE-45091301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3E3-74AD-438F-8F64-F6E30C9B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09C-EBD3-4471-9B98-2D27DD0C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174-9600-4194-8467-055556A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959-1D4B-4709-A192-F5D4F8A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8418-769E-4E35-925E-649B44F357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ある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362320"/>
            <a:ext cx="3276720" cy="373356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1">
                <a:moveTo>
                  <a:pt x="3600" y="0"/>
                </a:moveTo>
                <a:arcTo wR="3600" hR="3600" stAng="16200000" swAng="-5400000"/>
                <a:lnTo>
                  <a:pt x="0" y="21011"/>
                </a:lnTo>
                <a:arcTo wR="3600" hR="3600" stAng="10800000" swAng="-5400000"/>
                <a:lnTo>
                  <a:pt x="18000" y="2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666880"/>
            <a:ext cx="266688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57200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3581280"/>
            <a:ext cx="8384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8954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38280" y="5028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71800" y="4038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3352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96216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0400" y="4800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36576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_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45720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_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無しの場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39840" y="3716280"/>
            <a:ext cx="2286000" cy="19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44760" y="4021200"/>
            <a:ext cx="16761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77920" y="4402080"/>
            <a:ext cx="608040" cy="608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11640" y="3716280"/>
            <a:ext cx="2286000" cy="19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16560" y="4021200"/>
            <a:ext cx="16761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49720" y="4402080"/>
            <a:ext cx="608040" cy="608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87760" y="4707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39840" y="5850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このアトムが変更　→　この膜のロック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382840" y="5011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973760" y="5392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2133720"/>
            <a:ext cx="3352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トム・リンクの扱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236232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971800"/>
            <a:ext cx="3047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581280"/>
            <a:ext cx="4190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(30bit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419720"/>
            <a:ext cx="4190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 (to next freen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36232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2362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419720"/>
            <a:ext cx="304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36232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971800"/>
            <a:ext cx="304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581280"/>
            <a:ext cx="3049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05520"/>
            <a:ext cx="4190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 (to 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105520"/>
            <a:ext cx="304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96160" y="243828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情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1040" y="30481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ンク（リンク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9120" y="36576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ンク（整数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02840" y="449568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きノード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17840" y="51814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への参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190512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膜の扱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配列で確保し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(1byte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管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27672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971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96252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9625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9528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49528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79096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00800" y="3505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34320" y="25909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495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86040" y="5486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5486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93920" y="2727360"/>
            <a:ext cx="3808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5240" y="21938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膜ごとにこの構造を保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8120" y="2727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3400" y="3870360"/>
            <a:ext cx="228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3400" y="4098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4327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3400" y="4556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3400" y="4784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5520" y="371808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056040" y="387036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22520" y="3870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76240" y="4937040"/>
            <a:ext cx="8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22520" y="3489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3400" y="33368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640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852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940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064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5152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240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5520" y="4479840"/>
            <a:ext cx="3048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640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852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940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064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152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3240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6040" y="4175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5417280" y="4251960"/>
            <a:ext cx="2160" cy="762840"/>
          </a:xfrm>
          <a:prstGeom prst="curvedConnector5">
            <a:avLst>
              <a:gd name="adj1" fmla="val -28800000"/>
              <a:gd name="adj2" fmla="val 50000"/>
              <a:gd name="adj3" fmla="val -28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H="1" rot="16200000">
            <a:off x="5036400" y="3566160"/>
            <a:ext cx="2160" cy="762480"/>
          </a:xfrm>
          <a:prstGeom prst="curvedConnector5">
            <a:avLst>
              <a:gd name="adj1" fmla="val -28800000"/>
              <a:gd name="adj2" fmla="val 49976"/>
              <a:gd name="adj3" fmla="val -28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/>
          <p:nvPr/>
        </p:nvCxnSpPr>
        <p:spPr>
          <a:xfrm flipH="1" rot="16200000">
            <a:off x="5988600" y="3375720"/>
            <a:ext cx="2160" cy="1143720"/>
          </a:xfrm>
          <a:prstGeom prst="curvedConnector5">
            <a:avLst>
              <a:gd name="adj1" fmla="val -25100000"/>
              <a:gd name="adj2" fmla="val 50000"/>
              <a:gd name="adj3" fmla="val -25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4464720" y="4061520"/>
            <a:ext cx="2160" cy="1143720"/>
          </a:xfrm>
          <a:prstGeom prst="curvedConnector5">
            <a:avLst>
              <a:gd name="adj1" fmla="val -25100000"/>
              <a:gd name="adj2" fmla="val 50000"/>
              <a:gd name="adj3" fmla="val -25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056040" y="3413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4131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447984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6400" y="371808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6552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064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852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9400" y="447984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46400" y="447984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9240" y="463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80120" y="463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3400" y="29559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1320" y="516564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8600" y="516564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d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3000" y="56228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_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9560" y="31082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94120" y="3870360"/>
            <a:ext cx="2666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トムの保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画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3886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(get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取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次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生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x(PX, PY, NX, NY, R, G, B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表現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端要素のリンクには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入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05740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532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3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66680" y="1905120"/>
            <a:ext cx="1828800" cy="3429000"/>
            <a:chOff x="1066680" y="1905120"/>
            <a:chExt cx="1828800" cy="3429000"/>
          </a:xfrm>
        </p:grpSpPr>
        <p:sp>
          <p:nvSpPr>
            <p:cNvPr id="229" name=""/>
            <p:cNvSpPr/>
            <p:nvPr/>
          </p:nvSpPr>
          <p:spPr>
            <a:xfrm>
              <a:off x="1295280" y="449604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　実行アトム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37339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ル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6680" y="2438640"/>
              <a:ext cx="1828800" cy="27432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743200"/>
                <a:gd name="textAreaBottom" fmla="*/ 2653920 h 27432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280" y="502920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生成待ち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36840" y="1905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タスク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27432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6196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288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36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560" y="3200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057400" y="2971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31244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560" y="3048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124080" y="1905120"/>
            <a:ext cx="1828800" cy="3429000"/>
            <a:chOff x="3124080" y="1905120"/>
            <a:chExt cx="1828800" cy="3429000"/>
          </a:xfrm>
        </p:grpSpPr>
        <p:sp>
          <p:nvSpPr>
            <p:cNvPr id="243" name=""/>
            <p:cNvSpPr/>
            <p:nvPr/>
          </p:nvSpPr>
          <p:spPr>
            <a:xfrm>
              <a:off x="3352680" y="449604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　実行アトム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52680" y="37339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ル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2438640"/>
              <a:ext cx="1828800" cy="27432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743200"/>
                <a:gd name="textAreaBottom" fmla="*/ 2653920 h 27432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2680" y="502920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生成待ち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94240" y="1905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タスク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1280" y="27432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936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62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076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7960" y="3200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114800" y="2971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8480" y="31244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3048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181480" y="1905120"/>
            <a:ext cx="1828800" cy="3429000"/>
            <a:chOff x="5181480" y="1905120"/>
            <a:chExt cx="1828800" cy="3429000"/>
          </a:xfrm>
        </p:grpSpPr>
        <p:sp>
          <p:nvSpPr>
            <p:cNvPr id="257" name=""/>
            <p:cNvSpPr/>
            <p:nvPr/>
          </p:nvSpPr>
          <p:spPr>
            <a:xfrm>
              <a:off x="5410080" y="449604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　実行アトム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0080" y="37339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ル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2438640"/>
              <a:ext cx="1828800" cy="27432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743200"/>
                <a:gd name="textAreaBottom" fmla="*/ 2653920 h 27432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0080" y="502920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生成待ち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51640" y="1905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タスク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7432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676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36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16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5360" y="3200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172200" y="2971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5880" y="31244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05360" y="3048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90720" y="54100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膜ごとに１つの実行アトムスタック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生成待ちスタックをも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81680" y="34290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32004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71840" y="6019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4840" y="571500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2819520"/>
            <a:ext cx="381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2819520"/>
            <a:ext cx="381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819520"/>
            <a:ext cx="381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2200" y="342900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 0 1 3 4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411480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411480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38480" y="411480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0400" y="474984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 0 3 4 6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541008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541008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541008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80720" y="4648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285640" y="4648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742840" y="4648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124080" y="46483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86000" y="3352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666520" y="33526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048120" y="3352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19520"/>
            <a:ext cx="380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11480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4100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回路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14560" y="58672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圧増幅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91+10)/10 = 10.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非反転増幅回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00200" y="365760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35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3809880"/>
            <a:ext cx="1738440" cy="1371600"/>
          </a:xfrm>
          <a:prstGeom prst="rightArrow">
            <a:avLst>
              <a:gd name="adj1" fmla="val 100000"/>
              <a:gd name="adj2" fmla="val 126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324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57913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40080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4008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28195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7672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88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5438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0195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8006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002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57800" y="3123720"/>
            <a:ext cx="761760" cy="304920"/>
            <a:chOff x="5257800" y="3123720"/>
            <a:chExt cx="761760" cy="304920"/>
          </a:xfrm>
        </p:grpSpPr>
        <p:sp>
          <p:nvSpPr>
            <p:cNvPr id="335" name=""/>
            <p:cNvSpPr/>
            <p:nvPr/>
          </p:nvSpPr>
          <p:spPr>
            <a:xfrm flipV="1">
              <a:off x="5257800" y="3124080"/>
              <a:ext cx="63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44824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532116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70240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5574600" y="3123720"/>
              <a:ext cx="127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582912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956200" y="3276360"/>
              <a:ext cx="63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647960" y="4952880"/>
            <a:ext cx="304920" cy="609480"/>
            <a:chOff x="4647960" y="4952880"/>
            <a:chExt cx="304920" cy="609480"/>
          </a:xfrm>
        </p:grpSpPr>
        <p:sp>
          <p:nvSpPr>
            <p:cNvPr id="343" name=""/>
            <p:cNvSpPr/>
            <p:nvPr/>
          </p:nvSpPr>
          <p:spPr>
            <a:xfrm>
              <a:off x="4800600" y="4952880"/>
              <a:ext cx="15228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648320" y="500364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4648320" y="510516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648320" y="520704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4648320" y="530856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648320" y="541008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647960" y="5511960"/>
              <a:ext cx="1522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8006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4360" y="43434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94840" y="5105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0360" y="3352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k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6560" y="2819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09720" y="5334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9960" y="4495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2440" y="390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388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入力データの変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3917880"/>
            <a:ext cx="12189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30798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39942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49086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30798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9942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49086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3880" y="4299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523880" y="3384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44514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338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429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521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338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429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521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6680" y="528948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2360" y="5670720"/>
            <a:ext cx="30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.jar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3847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0280" y="39178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4299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248520" y="44510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22860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0600" y="190512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2286000"/>
            <a:ext cx="1295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3400" y="2514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03960" y="113652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3840" y="152388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790960" y="1676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732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41120" y="5105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71520" y="378792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3657600"/>
            <a:ext cx="9907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2-11T06:32:15Z</dcterms:modified>
  <cp:revision>8</cp:revision>
  <dc:subject/>
  <dc:title>PowerPoint Presentation</dc:title>
</cp:coreProperties>
</file>