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B17F-4CCD-4074-B236-10D0F9647D0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なくせるので、本質的にはリアルタイム向き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問題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れ以外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可能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やるには複雑なデータ構造が必要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o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毎、膜毎のアトム管理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本処理系のようなアトム生成による方法では、センサ情報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）＋付加情報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）で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少なくと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トムグループがルールに含まれることが多いため､必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使われ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使わない別方式を考えるか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atom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実行時間を予測する方法が必要であ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れの前に、全体の実行の流れのスライドが欲しい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o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で走らせたランタイムに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プログラムをコンパイルしたもの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シリアル経由で送っ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その入力データの生成は図のような流れで行な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基本的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処理系のコンパイル出力を利用し、それ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o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送れる形式に再変換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今までの処理系とどういう関係にある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何行書いた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制御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かいたらどう良かった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DC8-30D6-43A7-84A8-A9969737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FB2-7E78-4EE2-84D1-DD75286F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CDC-C957-4E00-AD15-3D234694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C7F-246D-4416-BB8B-B9424A0D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858C-2C9B-4999-AB0D-F15C7F61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6495-5BEF-4AD8-A57B-8C6EE4B6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DA66-435F-49D1-B91C-32A31A1E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0390-A8C9-4B25-84DA-A4AC9D17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BDBB-089E-4566-9D20-31C47C39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97EA-3412-43BF-BDF1-0D8407F5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071F-7EDE-4636-85B2-5BD40266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703-2062-4246-9E90-234BCBF4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2650-881D-478F-9546-A8B0A91F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BDDE-5916-4D37-AAFA-BB7C644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4914-88A2-489F-A3A7-38A52477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77F0-A305-42C8-A2D9-B401BCD9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7CAF-E877-46D4-A063-C13B98E4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763-9731-48EB-B426-FE66D4D5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E64-CA0A-4714-861A-683606D4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603-86B1-440C-B620-6E5D8073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2BD-B031-4A94-9B09-A30A0A40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B8B-E06C-4AC8-A95D-36A15285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332-6ADB-4E5E-832F-3807F779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912-6A4E-430E-A673-5815B65E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585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5480" y="585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66640" y="1008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36720" y="1008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934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7320" y="477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C0D9-2804-416A-826C-A6A7BB908151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B306-27BC-4CF7-81B9-236BE448A3E0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小規模制御系向け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br>
              <a:rPr sz="4400"/>
            </a:b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系の設計と実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早稲田大学　上田研究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矢島伸吾　上田和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2005/3/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L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6FCE-A26C-4BE1-9A33-07C32C4B13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デモ：風上に向かって走る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539-9EFF-40B2-9AA1-3B6FFC1D96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実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制御できる処理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3600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行（ランタイム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500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行　変換部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行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省メモリ設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制御以外は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も実行可能（デバッグ用途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プログラムのコンパイ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→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版処理系を最大限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の吐いた中間コードを利用、再変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2DF-CA46-4E60-8B8A-7B50A63D8C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まとめと今後の予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1447920"/>
            <a:ext cx="3810240" cy="1676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制御、周期タス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並列タスク、優先処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記述方式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3581280"/>
            <a:ext cx="3276720" cy="2057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ッドラインの指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高度な優先度指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タイマ以外の）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イベント処理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3581280"/>
            <a:ext cx="3200400" cy="160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静的な型づ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最適化コンパイ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67480" y="114300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研究成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01960" y="3276720"/>
            <a:ext cx="124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今後の研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04200" y="327672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関連研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5105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19320" y="5943600"/>
            <a:ext cx="64008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よるリアルタイム制御の実現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907-356D-4C49-ADEA-C9E9AEC256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11D-347A-46B3-907B-13A6DEA36C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196-AC46-40E9-9868-262FD3761C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予備スライ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2C0-D780-404B-941C-BDADC415B8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中間言語の変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304920" y="1371600"/>
            <a:ext cx="472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           [1, 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atom    [1, 0, a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ef       [2, 1, 0, 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           [2, b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mp           [L100, [0], [1, 2], []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           [3, 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         [( a(X) b(X) :- c 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queueatom    [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queueatom    [2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atom     [1, 0, a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atom     [2, 0, b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atom     [3, 0, c_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queueatom    [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atom       [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atom       [2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ed        [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410080" y="1371240"/>
            <a:ext cx="3468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4 1 0 655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2 1 0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 2 655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 1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 2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1 3 0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5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5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3276720"/>
            <a:ext cx="838080" cy="761760"/>
          </a:xfrm>
          <a:prstGeom prst="rightArrow">
            <a:avLst>
              <a:gd name="adj1" fmla="val 50000"/>
              <a:gd name="adj2" fmla="val 2750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48640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46200" y="604368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バイナリ化し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へ転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07D-2349-4CF7-98E9-90E76877A0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省メモリデータ構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3200" y="1447920"/>
            <a:ext cx="8650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）アトム、リンク、膜、ルールはオブジェク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ビットの有効活用により、アトムを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ity+1 word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必要なメモリ：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894040" y="3633840"/>
            <a:ext cx="6162480" cy="3074400"/>
            <a:chOff x="2894040" y="3633840"/>
            <a:chExt cx="6162480" cy="3074400"/>
          </a:xfrm>
        </p:grpSpPr>
        <p:sp>
          <p:nvSpPr>
            <p:cNvPr id="311" name=""/>
            <p:cNvSpPr/>
            <p:nvPr/>
          </p:nvSpPr>
          <p:spPr>
            <a:xfrm>
              <a:off x="3857400" y="3816360"/>
              <a:ext cx="2827440" cy="36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57760" y="3999240"/>
              <a:ext cx="179856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tom_id: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57400" y="4486320"/>
              <a:ext cx="257040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94040" y="497376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a(30bit i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94040" y="564372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r (to next freeno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4040" y="3999240"/>
              <a:ext cx="963360" cy="48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m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56320" y="3999240"/>
              <a:ext cx="12852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27800" y="564372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7400" y="3999240"/>
              <a:ext cx="90036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ity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27800" y="448632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94040" y="4486320"/>
              <a:ext cx="9633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os: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27800" y="497376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4040" y="6191280"/>
              <a:ext cx="353376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r (to ato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27800" y="6191280"/>
              <a:ext cx="257040" cy="4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69240" y="405936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アトム情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54120" y="454680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リンク（リンク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82200" y="5034240"/>
              <a:ext cx="187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リンク（整数型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00400" y="5704200"/>
              <a:ext cx="22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空きノード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91280" y="624852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 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アトムへの参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57760" y="3633840"/>
              <a:ext cx="109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52280" y="4419720"/>
            <a:ext cx="2438640" cy="1143000"/>
          </a:xfrm>
          <a:prstGeom prst="wedgeRoundRectCallout">
            <a:avLst>
              <a:gd name="adj1" fmla="val 62564"/>
              <a:gd name="adj2" fmla="val 19861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整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領域に格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ポインタタグ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5715000"/>
            <a:ext cx="2438640" cy="1066680"/>
          </a:xfrm>
          <a:prstGeom prst="wedgeRoundRectCallout">
            <a:avLst>
              <a:gd name="adj1" fmla="val 62435"/>
              <a:gd name="adj2" fmla="val -29912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空きノード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リストで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判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3733920"/>
            <a:ext cx="2438640" cy="457200"/>
          </a:xfrm>
          <a:prstGeom prst="wedgeRoundRectCallout">
            <a:avLst>
              <a:gd name="adj1" fmla="val 61328"/>
              <a:gd name="adj2" fmla="val 136458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ドレスは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3200400"/>
            <a:ext cx="5410440" cy="457200"/>
          </a:xfrm>
          <a:prstGeom prst="wedgeRoundRectCallout">
            <a:avLst>
              <a:gd name="adj1" fmla="val 6046"/>
              <a:gd name="adj2" fmla="val 122569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所属膜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格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1320" y="3200400"/>
            <a:ext cx="2971800" cy="457200"/>
          </a:xfrm>
          <a:prstGeom prst="wedgeRoundRectCallout">
            <a:avLst>
              <a:gd name="adj1" fmla="val -37018"/>
              <a:gd name="adj2" fmla="val 122222"/>
              <a:gd name="adj3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名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で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2514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2514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45A-40DE-4686-B3F8-F59C2BDD49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リアルタイムとの関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459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リアルタイム＝イベントから予定時間内に決められた処理が行え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システムアトムのユーザ定義を含めれば）一連のルール適用の優先処理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リアルタイム処理を行うために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より複雑な優先度・デッドラインの設定と、スケジューリング機構、ルールの適用時間の計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命令の実行時間予測、もしく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ato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用いないルール適用方式を考え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数々の問題の中で、優先処理の一方式を提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DB9-38C4-4017-AD57-CF5A87F245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システムアトム一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059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生成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0 ~ analog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in4 ~ dig_in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, quad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その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in, $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24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コマンド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, timer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ki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motor, rightmo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int, putch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0 ~ dig_out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o7 ~ servo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(right)_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_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C70-1C23-4A0D-B7DA-C9A54ADB7C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5029200"/>
            <a:ext cx="80010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プログラミング言語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561560" y="1692360"/>
            <a:ext cx="3716280" cy="825480"/>
            <a:chOff x="4561560" y="1692360"/>
            <a:chExt cx="3716280" cy="825480"/>
          </a:xfrm>
        </p:grpSpPr>
        <p:sp>
          <p:nvSpPr>
            <p:cNvPr id="111" name=""/>
            <p:cNvSpPr/>
            <p:nvPr/>
          </p:nvSpPr>
          <p:spPr>
            <a:xfrm>
              <a:off x="4561560" y="1692360"/>
              <a:ext cx="371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アトム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と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リンク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　からな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グラフ構造が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膜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　　 で階層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95600" y="1768680"/>
              <a:ext cx="304560" cy="304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667200" y="1768680"/>
              <a:ext cx="456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4920" y="2149560"/>
              <a:ext cx="576000" cy="360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011200" y="2666880"/>
            <a:ext cx="2680200" cy="1191240"/>
            <a:chOff x="5011200" y="2666880"/>
            <a:chExt cx="2680200" cy="1191240"/>
          </a:xfrm>
        </p:grpSpPr>
        <p:sp>
          <p:nvSpPr>
            <p:cNvPr id="116" name=""/>
            <p:cNvSpPr/>
            <p:nvPr/>
          </p:nvSpPr>
          <p:spPr>
            <a:xfrm>
              <a:off x="5011200" y="2666880"/>
              <a:ext cx="268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ルール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膜内の、</a:t>
              </a:r>
              <a:r>
                <a:rPr b="0" lang="ja-JP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左辺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と同じ構造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</a:t>
              </a:r>
              <a:r>
                <a:rPr b="0" lang="ja-JP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右辺</a:t>
              </a: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の形に書き換える規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6360" y="2743200"/>
              <a:ext cx="15242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左辺 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:- 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右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04920" y="1600200"/>
            <a:ext cx="3962160" cy="2408400"/>
            <a:chOff x="304920" y="1600200"/>
            <a:chExt cx="3962160" cy="2408400"/>
          </a:xfrm>
        </p:grpSpPr>
        <p:sp>
          <p:nvSpPr>
            <p:cNvPr id="119" name=""/>
            <p:cNvSpPr/>
            <p:nvPr/>
          </p:nvSpPr>
          <p:spPr>
            <a:xfrm>
              <a:off x="304920" y="1600200"/>
              <a:ext cx="3962160" cy="240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1360" y="1736640"/>
              <a:ext cx="2049120" cy="1298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58880" y="1736640"/>
              <a:ext cx="1502640" cy="19814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24640" y="1896120"/>
              <a:ext cx="932040" cy="728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360" y="3240000"/>
              <a:ext cx="1776240" cy="614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1040" y="194148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7880" y="1873440"/>
              <a:ext cx="272880" cy="272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1040" y="2556360"/>
              <a:ext cx="1161360" cy="34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9440" y="262476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124280" y="272484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2720" y="262476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807200" y="2724840"/>
              <a:ext cx="14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7320" y="21466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7360" y="21466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5680" y="276156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44360" y="221508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7600" y="296640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124640" y="2009880"/>
              <a:ext cx="27324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217600" y="2283120"/>
              <a:ext cx="8197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0760" y="2078280"/>
              <a:ext cx="34164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7600" y="2419920"/>
              <a:ext cx="54612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900160" y="2419920"/>
              <a:ext cx="20484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490120" y="2966400"/>
              <a:ext cx="20484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0520" y="3171600"/>
              <a:ext cx="819720" cy="34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: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8920" y="324000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47360" y="324000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10200" y="276156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52200" y="276156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54040" y="3376440"/>
              <a:ext cx="27324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54040" y="3240000"/>
              <a:ext cx="6840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5920" y="3308400"/>
              <a:ext cx="682920" cy="477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34320" y="344484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07560" y="3413520"/>
              <a:ext cx="272880" cy="273240"/>
            </a:xfrm>
            <a:custGeom>
              <a:avLst/>
              <a:gdLst>
                <a:gd name="textAreaLeft" fmla="*/ 13320 w 272880"/>
                <a:gd name="textAreaRight" fmla="*/ 259560 w 272880"/>
                <a:gd name="textAreaTop" fmla="*/ 13320 h 273240"/>
                <a:gd name="textAreaBottom" fmla="*/ 259920 h 273240"/>
              </a:gdLst>
              <a:ahLst/>
              <a:rect l="textAreaLeft" t="textAreaTop" r="textAreaRight" b="textAreaBottom"/>
              <a:pathLst>
                <a:path w="21600" h="21628">
                  <a:moveTo>
                    <a:pt x="3600" y="0"/>
                  </a:moveTo>
                  <a:arcTo wR="3600" hR="3600" stAng="16200000" swAng="-5400000"/>
                  <a:lnTo>
                    <a:pt x="0" y="18028"/>
                  </a:lnTo>
                  <a:arcTo wR="3600" hR="3600" stAng="10800000" swAng="-5400000"/>
                  <a:lnTo>
                    <a:pt x="18000" y="216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9760" y="3308400"/>
              <a:ext cx="682920" cy="477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8160" y="3444840"/>
              <a:ext cx="204840" cy="204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1040" y="3413520"/>
              <a:ext cx="273240" cy="273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97880" y="2215080"/>
              <a:ext cx="27288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34320" y="2146680"/>
              <a:ext cx="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49200" y="2488320"/>
              <a:ext cx="20484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585800" y="444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523880" y="5791320"/>
            <a:ext cx="5410080" cy="609120"/>
            <a:chOff x="1523880" y="5791320"/>
            <a:chExt cx="5410080" cy="609120"/>
          </a:xfrm>
        </p:grpSpPr>
        <p:sp>
          <p:nvSpPr>
            <p:cNvPr id="160" name=""/>
            <p:cNvSpPr/>
            <p:nvPr/>
          </p:nvSpPr>
          <p:spPr>
            <a:xfrm>
              <a:off x="3327120" y="5791320"/>
              <a:ext cx="1717200" cy="609120"/>
            </a:xfrm>
            <a:prstGeom prst="leftRightArrow">
              <a:avLst>
                <a:gd name="adj1" fmla="val 70241"/>
                <a:gd name="adj2" fmla="val 42522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計算環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3880" y="5791320"/>
              <a:ext cx="180324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ahoma"/>
                </a:rPr>
                <a:t>組込・分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44680" y="5791320"/>
              <a:ext cx="188928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ahoma"/>
                </a:rPr>
                <a:t>超広域分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066560" y="5181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多様な計算環境を統一的に扱う（スケーラブル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7600" y="40622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 u="sng">
                <a:solidFill>
                  <a:srgbClr val="333399"/>
                </a:solidFill>
                <a:uFillTx/>
                <a:latin typeface="Tahoma"/>
              </a:rPr>
              <a:t>階層グラフ構造の書き換え＝計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4724280"/>
            <a:ext cx="1295640" cy="533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A6F-2DA5-45A5-B1E0-117BD8B9BE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力データの生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76320" y="3911760"/>
            <a:ext cx="12189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4292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295280" y="3377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44449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708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6708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8080" y="52833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毎に分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51360" y="5664240"/>
            <a:ext cx="43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mntal.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d | trans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コードに変換し、それを改変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テキスト形式に落とす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処理系利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19920" y="33782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81680" y="3911760"/>
            <a:ext cx="106704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42926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19920" y="444456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320" y="2279520"/>
            <a:ext cx="16761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2000" y="18986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ト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情報ファイ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2480" y="250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279520"/>
            <a:ext cx="12956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9880" y="2508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250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250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75360" y="1130400"/>
            <a:ext cx="2838240" cy="2288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m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一意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振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区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出力解釈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&gt;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名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使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240" y="151776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登録済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562360" y="1670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848720" y="433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12520" y="50990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バイナリに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242920" y="3781440"/>
            <a:ext cx="74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53280" y="3651120"/>
            <a:ext cx="990720" cy="1447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25F-2EE9-48B1-990C-D2198625E5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まと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61084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本研究の成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よる周期タスクや制御の記述方式の提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マ、センサ入力、カメラ画像、モータ出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周期タスク並列動作と優先処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制御できる処理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実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変換部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言語、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処理系の出力するコードを再解釈、変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ランタイム部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静的プログラム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: 5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モリ効率のよいデータ構造保持機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0B8-07A2-4E5D-A9B9-DBA487396B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今後の予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4582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イマ以外のイベントの補足・処理機能の追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ボタンが押された、メッセージを受信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より高度な優先度とデッドラインの指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一連処理の優先実行は、システムアトムのユーザ定義機能を実装すれば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言語制限や制御表現の見直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膜の有効性、アトム生成以外の制御表現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この研究を元に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と制御やリアルタイム処理との関係について考えていきた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13C-42D9-4B32-9079-48EDFD3EEC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の優先実行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710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ルールの優先適用 → スタックの使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2209680"/>
            <a:ext cx="2895840" cy="350532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505320"/>
              <a:gd name="textAreaBottom" fmla="*/ 3364200 h 3505320"/>
            </a:gdLst>
            <a:ahLst/>
            <a:rect l="textAreaLeft" t="textAreaTop" r="textAreaRight" b="textAreaBottom"/>
            <a:pathLst>
              <a:path w="21600" h="26146">
                <a:moveTo>
                  <a:pt x="3600" y="0"/>
                </a:moveTo>
                <a:arcTo wR="3600" hR="3600" stAng="16200000" swAng="-5400000"/>
                <a:lnTo>
                  <a:pt x="0" y="22546"/>
                </a:lnTo>
                <a:arcTo wR="3600" hR="3600" stAng="10800000" swAng="-5400000"/>
                <a:lnTo>
                  <a:pt x="18000" y="261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5029200"/>
            <a:ext cx="24386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待ちスタ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4267080"/>
            <a:ext cx="24386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スタ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133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02040" y="4648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3276720"/>
            <a:ext cx="190512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8800" y="2362320"/>
            <a:ext cx="914400" cy="685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0481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38080" y="2819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81080" y="2971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49400" y="38098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19320" y="594360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3581280"/>
            <a:ext cx="1066680" cy="20574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057400"/>
              <a:gd name="textAreaBottom" fmla="*/ 2005560 h 2057400"/>
            </a:gdLst>
            <a:ahLst/>
            <a:rect l="textAreaLeft" t="textAreaTop" r="textAreaRight" b="textAreaBottom"/>
            <a:pathLst>
              <a:path w="21600" h="41655">
                <a:moveTo>
                  <a:pt x="3600" y="0"/>
                </a:moveTo>
                <a:arcTo wR="3600" hR="3600" stAng="16200000" swAng="-5400000"/>
                <a:lnTo>
                  <a:pt x="0" y="38055"/>
                </a:lnTo>
                <a:arcTo wR="3600" hR="3600" stAng="10800000" swAng="-5400000"/>
                <a:lnTo>
                  <a:pt x="18000" y="4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他タスク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193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905120" y="5333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90160" y="548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4952880"/>
            <a:ext cx="914400" cy="5335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2209680"/>
            <a:ext cx="350532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されたアト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スタックにつま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3429000"/>
            <a:ext cx="35816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そのアトムを含む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リストとして保持）を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29400" y="31240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52880" y="4800600"/>
            <a:ext cx="3962520" cy="1600200"/>
          </a:xfrm>
          <a:prstGeom prst="wedgeRoundRectCallout">
            <a:avLst>
              <a:gd name="adj1" fmla="val -69152"/>
              <a:gd name="adj2" fmla="val -24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他タスクやタイマから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生成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生成待ちスタック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自タスクで処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170-4001-43EB-B178-01424DF440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191120" y="5562720"/>
            <a:ext cx="3809880" cy="1143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と命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研究の現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1523880"/>
            <a:ext cx="281952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の型づ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2133720"/>
            <a:ext cx="281952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作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3657600"/>
            <a:ext cx="4191120" cy="1371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の分散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・計算ノードの膜による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・ルールによる通信の記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61960" y="2057400"/>
            <a:ext cx="205740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2057400"/>
            <a:ext cx="1904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19720" y="1752120"/>
            <a:ext cx="1904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057400"/>
            <a:ext cx="213336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371600"/>
            <a:ext cx="266724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処理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05320" y="28954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大規模への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57200" y="28954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小規模への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67360" y="3581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ff0000"/>
                </a:solidFill>
                <a:latin typeface="Tahoma"/>
              </a:rPr>
              <a:t>研究されていない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114800"/>
            <a:ext cx="914400" cy="53352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876920"/>
            <a:ext cx="4648320" cy="1752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組込み制御のため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処理系の実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4648320"/>
            <a:ext cx="228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研究テー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86A-3C45-4B67-8CB8-D22C16D52E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小規模制御系向け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72640" y="3809520"/>
            <a:ext cx="827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れらの問題の解決方法の模索、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方式提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組み込み分野への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適応性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解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今後の議論の礎となる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実働環境の提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905120"/>
            <a:ext cx="4495680" cy="1828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利用可能なメモリが少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制御対象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イベントへの即時対応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60020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組み込み機器の特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25146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133720"/>
            <a:ext cx="3048120" cy="14475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れらを考慮し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を実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4114800"/>
            <a:ext cx="68580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5638680"/>
            <a:ext cx="670572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本研究では、組み込み機器とし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ロボット制御システ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1FA-5F29-4071-AAD4-E76A2F9F29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ロボット制御システム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yeb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大容量のメモ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様々な入出力インターフェー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ライブラリによる制御記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処理系実装に適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MK3-top-sm" descr=""/>
          <p:cNvPicPr/>
          <p:nvPr/>
        </p:nvPicPr>
        <p:blipFill>
          <a:blip r:embed="rId1"/>
          <a:stretch/>
        </p:blipFill>
        <p:spPr>
          <a:xfrm>
            <a:off x="7302600" y="1371600"/>
            <a:ext cx="1765080" cy="2362320"/>
          </a:xfrm>
          <a:prstGeom prst="rect">
            <a:avLst/>
          </a:prstGeom>
          <a:ln w="0">
            <a:noFill/>
          </a:ln>
        </p:spPr>
      </p:pic>
      <p:pic>
        <p:nvPicPr>
          <p:cNvPr id="193" name="family-sm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1805040" cy="2362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86400" y="3886200"/>
            <a:ext cx="3505320" cy="2819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2KB ROM 1MB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bitCPU (68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各種コントロー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o, motor, sen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無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シリアル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カメラ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2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, 60*8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343400"/>
            <a:ext cx="1066680" cy="838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ソー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4343400"/>
            <a:ext cx="914400" cy="838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867280"/>
            <a:ext cx="13716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バイナ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18148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980720" y="5181480"/>
            <a:ext cx="3049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43080" y="5257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4038480"/>
            <a:ext cx="2743200" cy="281952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819520"/>
              <a:gd name="textAreaBottom" fmla="*/ 2685600 h 2819520"/>
            </a:gdLst>
            <a:ahLst/>
            <a:rect l="textAreaLeft" t="textAreaTop" r="textAreaRight" b="textAreaBottom"/>
            <a:pathLst>
              <a:path w="21600" h="22201">
                <a:moveTo>
                  <a:pt x="3600" y="0"/>
                </a:moveTo>
                <a:arcTo wR="3600" hR="3600" stAng="16200000" swAng="-5400000"/>
                <a:lnTo>
                  <a:pt x="0" y="18601"/>
                </a:lnTo>
                <a:arcTo wR="3600" hR="3600" stAng="10800000" swAng="-5400000"/>
                <a:lnTo>
                  <a:pt x="18000" y="22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46880" y="375768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5715000"/>
            <a:ext cx="1143000" cy="914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6248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21360" y="5715000"/>
            <a:ext cx="1415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04D-4A9D-4383-B160-CEAFD606F9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言語の制限・記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43200" y="1523520"/>
            <a:ext cx="6400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スク膜を１個以上定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中にかけるも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アトム、リンク、膜によるデータ構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ル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ロセス文脈は引数なし、線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整数はガードで扱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スク膜直下にのみルール記述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ルール適用処理の簡素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各タスクのルール適用を平等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並列タスクの擬似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09680"/>
            <a:ext cx="2057400" cy="28958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95840"/>
              <a:gd name="textAreaBottom" fmla="*/ 2795400 h 2895840"/>
            </a:gdLst>
            <a:ahLst/>
            <a:rect l="textAreaLeft" t="textAreaTop" r="textAreaRight" b="textAreaBottom"/>
            <a:pathLst>
              <a:path w="21600" h="30401">
                <a:moveTo>
                  <a:pt x="3600" y="0"/>
                </a:moveTo>
                <a:arcTo wR="3600" hR="3600" stAng="16200000" swAng="-5400000"/>
                <a:lnTo>
                  <a:pt x="0" y="26801"/>
                </a:lnTo>
                <a:arcTo wR="3600" hR="3600" stAng="10800000" swAng="-5400000"/>
                <a:lnTo>
                  <a:pt x="18000" y="30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419720"/>
            <a:ext cx="1600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438280"/>
            <a:ext cx="1143000" cy="1219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9320"/>
              <a:gd name="textAreaBottom" fmla="*/ 1163520 h 1219320"/>
            </a:gdLst>
            <a:ahLst/>
            <a:rect l="textAreaLeft" t="textAreaTop" r="textAreaRight" b="textAreaBottom"/>
            <a:pathLst>
              <a:path w="21600" h="23042">
                <a:moveTo>
                  <a:pt x="3600" y="0"/>
                </a:moveTo>
                <a:arcTo wR="3600" hR="3600" stAng="16200000" swAng="-5400000"/>
                <a:lnTo>
                  <a:pt x="0" y="19442"/>
                </a:lnTo>
                <a:arcTo wR="3600" hR="3600" stAng="10800000" swAng="-5400000"/>
                <a:lnTo>
                  <a:pt x="18000" y="23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8098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3809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124080"/>
            <a:ext cx="38124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666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14300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4290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29718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03320" y="5181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スク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C01-8E71-45C4-8D55-D937B892EA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4876920"/>
            <a:ext cx="75438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制御記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073480"/>
            <a:ext cx="14479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507348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5302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88560" y="492120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4572000"/>
            <a:ext cx="140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出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5029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左モータを出力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30%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3581280"/>
            <a:ext cx="754380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59920" y="32767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周期制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286000"/>
            <a:ext cx="75438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61360" y="198108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入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25146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2514600"/>
            <a:ext cx="6858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25146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25146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0920" y="289548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センサから値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を取得し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377820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778200"/>
            <a:ext cx="83808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4006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3809880"/>
            <a:ext cx="121932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81680" y="380988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378468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4013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61840" y="419112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50×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毎に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36280" y="236232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27000" y="365760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64008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8672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03480" y="5791320"/>
            <a:ext cx="76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 コマンド型システムアトム（ルール適用直後に上記処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3480" y="6324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： 生成型システムアトム（他アトムより優先してルール適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15200" y="144792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基本方針：定義済みアトムの生成により制御を行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F28-F4A5-489E-BB2F-361195F2CD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の優先実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360" y="1295280"/>
            <a:ext cx="827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イベントは「生成型システムアトムの生成」で表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即時生成 → 通常ルール適用の中断機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ルールの優先適用 → スタックの使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1800360"/>
            <a:ext cx="1143000" cy="12189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ベ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195264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即時生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1952640"/>
            <a:ext cx="16002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優先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5880" y="320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この仕組みが必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114440" y="294336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562720" y="294336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218124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24280" y="2181240"/>
            <a:ext cx="38124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4419720"/>
            <a:ext cx="16765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常ル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適用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76920" y="4419720"/>
            <a:ext cx="17524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構造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未変更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572000"/>
            <a:ext cx="129528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中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638680"/>
            <a:ext cx="457200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ルール適用終了後にイベント処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5257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5257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940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9320" y="4343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43840" y="4343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94720" y="52578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83600" y="52578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4191120"/>
            <a:ext cx="1143000" cy="12189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ベ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発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1DB-0880-4C87-A083-FB69DE30B6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プログラム＆デ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895480"/>
            <a:ext cx="838224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_reset, quadleft(timer(10)), analog3(timer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(X) :- int(X), int(Y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= (((X + 1000100) mod 200) / 2) - 50 | wind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(Y) :- int(Y), int(VL), int(VR), VL = 50 + Y, VR = 50 - Y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ftmotor(VL), rightmotor(V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&gt; 500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, analog3(timerkill(10)), quadleft(timerkill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=&lt; 500 |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:- leftmotor(0), rightmotor(0).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90880" y="2666880"/>
            <a:ext cx="151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ind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345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モムービ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風上に向かって進む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045-334C-4EED-9308-9EB3BBC38F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5-03-08T20:34:48Z</dcterms:modified>
  <cp:revision>93</cp:revision>
  <dc:subject/>
  <dc:title>PowerPoint Presentation</dc:title>
</cp:coreProperties>
</file>