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085D-3170-4791-897D-E768324F941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制御は特別なアトムを用いて行な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いろいろなバイナリで変換してい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ntal.j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版処理系）をコンパイルに利用してい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主にその出力結果の整形を行なってい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gwi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画面を表示してみせる。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eye, run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両方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183-2AB3-41C0-B710-3256E7B3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2F7-752B-4E43-8397-093D07A2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391-6757-444D-9B90-3E910DD8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52F-0CA9-403F-8008-359B40F7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89C2-B811-4A02-934F-4556D7FB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7701-2133-4E4F-A4B3-F7D9521B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56E6-1E1C-4552-9BB6-938079EA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1EAA-2F90-4579-AEF6-3A1302BF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1B2B-1EC3-4482-9ED3-220F57AD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A079-D51D-4466-A0DF-BB72DCE2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57A4-CD00-4558-83DC-FBA8C25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0FC-D0F8-4A20-8CC9-F1B45D42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063A-6EC5-4EB2-90E0-9CC806B7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9137-6CD2-4DF8-A616-AC9E87C0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8B27-4D72-4238-8D6F-901B19DE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F12A-54D6-4B0D-91E3-B43C3DEF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084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77320" y="16282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436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8084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77320" y="3980880"/>
            <a:ext cx="26629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E958-3405-42AB-AC09-9DFED38E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72C-CAFF-4EA2-8886-D32719B4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ABA-C770-4E02-816D-84870354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EA2-C7D8-4E3F-A0B2-24FFEE24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58560" y="259920"/>
            <a:ext cx="7721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61C-6BA5-4F4D-8941-E078573C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AD9-5137-4979-BA58-74B2A286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2640" y="39808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F9B-2CEF-46C2-A651-3DC52D72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2640" y="1628280"/>
            <a:ext cx="403596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80880"/>
            <a:ext cx="82706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317-D306-409A-991B-29B9014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585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5480" y="585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66640" y="1008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36720" y="1008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934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7320" y="477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88C5-BD35-4CA3-BD1C-159E82EF1C26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8FF5-72D5-484A-9ED6-0D356937AE7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小規模制御系向け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MNtal</a:t>
            </a:r>
            <a:br>
              <a:rPr sz="4400"/>
            </a:b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処理系デ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早稲田大学　上田研究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矢島伸吾　上田和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2005/3/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L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48F3-BB1B-4094-A6DF-EEB76E4CD8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：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温度計：アナログセンサ入力と画面表示の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2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温度センサが接続されてい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2971800"/>
            <a:ext cx="8382240" cy="373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(c(84, c(101, c(109, c(112, c(58, n)))))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2(timer(25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2(X1), analog2(X2), analog2(X3), analog2(X4), buf(B) :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(X1), int(X2), int(X3), int(X4), int(X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 = (X1 + X2 + X3 + X4) / 4 | data(X), buf(Y), putstr(B, 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= putstr(c(A, Z1)) :- int(A) | Z = c(A, putstr(Z1)), putchar(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= putstr(n) :- Z = n, n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, data(X) :- int(X), int(X1), int(X2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1 = X / 25, X2 = ((X * 10) / 25) mod 10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int(X1), putchar(46), putint(X2), putchar(10)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08000" y="2743200"/>
            <a:ext cx="188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rmo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BC6-C396-4BF5-A800-4CA4F569D0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温度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79D-37CC-4FC8-BA77-C19B3E6700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マの使い方と仕組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955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（最初）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(timer(10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mse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(1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(110), analog(112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0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(110), analog(112), analog(10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割り込みハンドラで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ec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毎に時間を計る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→　閾値を超えていたらアトム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871-1199-4A19-B235-E6ACB7DAF2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画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3886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cture(get)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で取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次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id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(PX, PY, NX, NY, R, G, B)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で表現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端要素のリンクには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入れ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20574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20574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1680" y="20574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057400"/>
            <a:ext cx="121896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20574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42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532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532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32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246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674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8168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3429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3429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81680" y="3429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388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67480" y="3429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41148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1148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41148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24D-0631-4F9B-B1FF-E18DB380BA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４：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c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赤いものに向かって動く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プログラム：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76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ほとんどが画像処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アトムを画素リンク間に割り込ませ、値を取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67A-E688-4E9E-B6A4-DD95124EDD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赤いものに向かって動く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AB4-B7D4-49AF-8307-021BB56A6C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mntal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システム構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27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側実行ファイル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.h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側実行用シェルスクリプトとバイナ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conv.sh runeye.sh runpc.sh, bin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ディレクトリをコピ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環境変数設定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, LMNEYE, LMNJ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は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gwi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上で動作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3/4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公開　上田研究室矢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よ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可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424-5181-44D2-AA9E-82391D8B43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予備スライ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DEF-A969-45B8-8E06-097A566083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システムアトム一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059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生成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0 ~ analog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in4 ~ dig_in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, quad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その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in, $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24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コマンド型システムアト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, timer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ki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motor, rightmo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int, putch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0 ~ dig_out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_ou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o7 ~ servo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left(right)_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cture_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F37-A7F0-49DE-9253-0A97A29530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実行ムービ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C47-0F07-4F14-82A9-42C1BD7124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内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の流れの解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デ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サンプルプログラム＆デモムービー数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EBE-6E01-4AB1-8F8E-F83A61D595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展開したカメラ画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3657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25909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4724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36576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25909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4724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36576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32004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4724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3581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733560" y="35053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885840" y="3505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62520" y="373392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029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5760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6000" y="28195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このアトムだ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常領域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42280" y="2001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他は別口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38680" y="3200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3200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62920" y="320040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960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43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74320" y="43434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通常アトムを割り込ませ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そこを起点にルール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全画素にルール適用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試みなくてい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4D2-CB89-4CF2-965D-32A63B3A21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実行の流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27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側ランタイムを転送・実行してお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プログラムのコンパイ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yeconv.sh program[.lmn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転送→実行→実行結果受信→表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uneye.sh program[.tal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C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上でも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unpc.sh program[.tal]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実行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10080"/>
            <a:ext cx="1600200" cy="1143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638680"/>
            <a:ext cx="1371600" cy="762120"/>
          </a:xfrm>
          <a:prstGeom prst="rightArrow">
            <a:avLst>
              <a:gd name="adj1" fmla="val 50000"/>
              <a:gd name="adj2" fmla="val 449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co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5410080"/>
            <a:ext cx="1752480" cy="1143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中間コ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5562720"/>
            <a:ext cx="1523880" cy="838080"/>
          </a:xfrm>
          <a:prstGeom prst="rightArrow">
            <a:avLst>
              <a:gd name="adj1" fmla="val 50000"/>
              <a:gd name="adj2" fmla="val 454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419720"/>
            <a:ext cx="2133720" cy="220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80280" y="4191120"/>
            <a:ext cx="1162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ye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4876920"/>
            <a:ext cx="1828800" cy="160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ntal.h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170-0E11-42FC-82B2-207DC99E20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中間コードの変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04920" y="1371600"/>
            <a:ext cx="472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           [1, 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atom    [1, 0, a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ef       [2, 1, 0, 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           [2, b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mp           [L100, [0], [1, 2], []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           [3, 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         [( a(X) b(X) :- c 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queueatom    [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queueatom    [2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atom     [1, 0, a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atom     [2, 0, b_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atom     [3, 0, c_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queueatom    [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atom       [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atom       [2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ed        [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10080" y="1371240"/>
            <a:ext cx="3468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4 1 0 655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2 1 0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 2 655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 1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0 2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1 3 0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5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35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276720"/>
            <a:ext cx="838080" cy="761760"/>
          </a:xfrm>
          <a:prstGeom prst="rightArrow">
            <a:avLst>
              <a:gd name="adj1" fmla="val 50000"/>
              <a:gd name="adj2" fmla="val 2750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548640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34600" y="604368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bo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へ転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533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533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533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90720" y="425520"/>
            <a:ext cx="4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BF9-69B3-4251-BA24-DC4D3ECDFD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力データの生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@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yecon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3911760"/>
            <a:ext cx="12189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30733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9877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902120"/>
            <a:ext cx="129564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4292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95280" y="3377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4449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378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429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5207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080" y="528336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毎に分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51360" y="5664240"/>
            <a:ext cx="43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mntal.j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d | trans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コードに変換し、それを改変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テキスト形式に落とす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処理系利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33782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3911760"/>
            <a:ext cx="106704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42926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9920" y="444456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2279520"/>
            <a:ext cx="16761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42000" y="18986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ト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情報ファイ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250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2279520"/>
            <a:ext cx="12956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508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250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250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75360" y="1289160"/>
            <a:ext cx="2838240" cy="2288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m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一意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振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区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出力解釈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&gt;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名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使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240" y="151776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登録済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562360" y="1670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433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12520" y="50990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バイナリに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42920" y="3781440"/>
            <a:ext cx="74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651120"/>
            <a:ext cx="990720" cy="1447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308-38E1-4B1D-BAF4-055A42C840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54100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_1(c_3(1,c_3(2,c_3(3,c_3(4,c_3(5,n_1)))))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518148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実行結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：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7100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ノーマル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ntal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プログラムの実行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895480"/>
            <a:ext cx="868680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end(c(1,c(2,c(3,n))),c(4,c(5,n)),resul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end(X,Y,Z), n(X)      :- Y=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end(X,Y,Z), c(A,X1,X) :- c(A,Z1,Z), append(X1,Y,Z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5909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ppend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4AA-403B-4745-BEB6-02787D0F24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サンプル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：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風上に向かって進む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895480"/>
            <a:ext cx="838224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_reset, quadleft(timer(10)), analog3(timer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left(X) :- int(X), int(Y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 = (((X + 1000100) mod 200) / 2) - 50 | wind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(Y) :- int(Y), int(VL), int(VR), VL = 50 + Y, VR = 50 - Y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ftmotor(VL), rightmotor(V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&gt; 500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, analog3(timerkill(10)), quadleft(timerkill(10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og3(X) :- int(X), X =&lt; 500 |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:- leftmotor(0), rightmotor(0).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0880" y="2666880"/>
            <a:ext cx="151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ind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358-E435-43D6-984E-1A7997D93A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風上に向かって動く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7064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3D1-4982-498F-98E9-804654F4B1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721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実行用機体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eyeyoko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82" name="eyeue" descr=""/>
          <p:cNvPicPr/>
          <p:nvPr/>
        </p:nvPicPr>
        <p:blipFill>
          <a:blip r:embed="rId2"/>
          <a:stretch/>
        </p:blipFill>
        <p:spPr>
          <a:xfrm>
            <a:off x="4724280" y="354348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925160" y="1676520"/>
            <a:ext cx="415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距離セン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カメラ　　　　　　　モータ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352320" y="1981080"/>
            <a:ext cx="1676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657600" y="28195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55800" y="5057640"/>
            <a:ext cx="472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ロータリーエンコー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風向計として利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　　　　　　　　　温度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219320" y="3809880"/>
            <a:ext cx="75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191120" y="5334120"/>
            <a:ext cx="1066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327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AEC-1583-4796-8FAD-386CA17BFF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</cp:lastModifiedBy>
  <dcterms:modified xsi:type="dcterms:W3CDTF">2005-03-10T11:09:06Z</dcterms:modified>
  <cp:revision>108</cp:revision>
  <dc:subject/>
  <dc:title>PowerPoint Presentation</dc:title>
</cp:coreProperties>
</file>