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13716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0B6-487C-4F16-82D2-4405584B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796212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A72-9443-4227-9700-8E050716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264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615-2380-4E3B-ABF7-B1021B23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084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732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084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732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BD9-6E8E-4A74-B1E6-28EAF438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0441-8F39-4A13-AF3B-78662AAA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07AF-6BDC-46A3-9D99-01F54D26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F104-C2EC-4203-AE22-5E872E77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8C1F-F4D6-4577-B2AE-2CF2526F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686D-36BD-48BE-8C60-81734839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58560" y="520200"/>
            <a:ext cx="7721640" cy="80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EDE1-3838-4F4B-8673-721AAEBC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C4C1-AF30-4E1D-9E16-833FD72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A16-3220-45F4-8686-F8FC1BB7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264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E3ED-4281-49C8-9B5F-63C88F3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495F-20B1-4807-AEEA-CFFADBA9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4360" y="796212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AAE1-8B5D-46CB-A5CA-EABB5708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264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941F-8BD9-45F5-9C0B-532297C1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084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77320" y="325728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436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084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77320" y="7962120"/>
            <a:ext cx="266292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8BA0-0E81-428D-9F98-FFE3EF1B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097-DFD3-48E2-A119-5E835521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B7F-58A9-4ABA-A32A-6E68BF34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0E8-B4ED-43E2-8EDD-92FA23CA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58560" y="520200"/>
            <a:ext cx="7721640" cy="80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C5A-5F5C-4C27-B9FA-1CF9B8C0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09F-4CB6-4802-9DB9-FE0A359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2640" y="796212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3E0-087F-4BC7-B07A-D00E6B94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2640" y="3257280"/>
            <a:ext cx="403596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7962120"/>
            <a:ext cx="8270640" cy="42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D5A-EAE6-435D-A549-A753028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1171440"/>
            <a:ext cx="438120" cy="9493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25480" y="1171440"/>
            <a:ext cx="328680" cy="94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6640" y="2016000"/>
            <a:ext cx="422280" cy="94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6720" y="2016000"/>
            <a:ext cx="368280" cy="94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870200"/>
            <a:ext cx="560520" cy="844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20" y="955800"/>
            <a:ext cx="31680" cy="210492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2536920"/>
            <a:ext cx="8226360" cy="6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360" y="3257280"/>
            <a:ext cx="8270640" cy="90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1264932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1264932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1264932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864C-5A8E-4D66-857C-44D1B6D0B132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4876920"/>
            <a:ext cx="9009000" cy="2104560"/>
            <a:chOff x="0" y="4876920"/>
            <a:chExt cx="9009000" cy="210456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5092560"/>
              <a:ext cx="711360" cy="948960"/>
              <a:chOff x="290520" y="5092560"/>
              <a:chExt cx="711360" cy="94896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5092560"/>
                <a:ext cx="437400" cy="948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5092560"/>
                <a:ext cx="328320" cy="948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5936760"/>
              <a:ext cx="737640" cy="948960"/>
              <a:chOff x="414360" y="5936760"/>
              <a:chExt cx="737640" cy="94896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5936760"/>
                <a:ext cx="421560" cy="948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5936760"/>
                <a:ext cx="369000" cy="948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5790960"/>
              <a:ext cx="560520" cy="844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4876920"/>
              <a:ext cx="31680" cy="21045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6520680"/>
              <a:ext cx="8692920" cy="11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12496680"/>
            <a:ext cx="190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1249668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1249668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8399-2FD4-4AE0-BBC6-6F1C479BF760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520200"/>
            <a:ext cx="772164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システムアトム一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3428640"/>
            <a:ext cx="4059360" cy="878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アナログ入力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0 ~ analog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ジタル入力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_in4 ~ dig_in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ロータリーエンコー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dleft, quad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ボタン押下状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スク間通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カメラ画像取得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周期処理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6000" y="3429000"/>
            <a:ext cx="4248000" cy="1043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センサ値即時取得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センサ値の周期取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, timer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マの削除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モータ速力設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tor, rightmo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CD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画面出力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int, put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ジタル出力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_out0 ~ dig_out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_out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ーボ出力値設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o7 ~ servo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エンコーダリセッ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dleft(right)_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スク間通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カメラ画像消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ture_re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200400"/>
            <a:ext cx="4038480" cy="708660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7086600"/>
              <a:gd name="textAreaBottom" fmla="*/ 6889680 h 7086600"/>
            </a:gdLst>
            <a:ahLst/>
            <a:rect l="textAreaLeft" t="textAreaTop" r="textAreaRight" b="textAreaBottom"/>
            <a:pathLst>
              <a:path w="21600" h="37902">
                <a:moveTo>
                  <a:pt x="3600" y="0"/>
                </a:moveTo>
                <a:arcTo wR="3600" hR="3600" stAng="16200000" swAng="-5400000"/>
                <a:lnTo>
                  <a:pt x="0" y="34302"/>
                </a:lnTo>
                <a:arcTo wR="3600" hR="3600" stAng="10800000" swAng="-5400000"/>
                <a:lnTo>
                  <a:pt x="18000" y="379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3200400"/>
            <a:ext cx="4114800" cy="10210680"/>
          </a:xfrm>
          <a:custGeom>
            <a:avLst/>
            <a:gdLst>
              <a:gd name="textAreaLeft" fmla="*/ 200880 w 4114800"/>
              <a:gd name="textAreaRight" fmla="*/ 3913920 w 4114800"/>
              <a:gd name="textAreaTop" fmla="*/ 200880 h 10210680"/>
              <a:gd name="textAreaBottom" fmla="*/ 10009800 h 10210680"/>
            </a:gdLst>
            <a:ahLst/>
            <a:rect l="textAreaLeft" t="textAreaTop" r="textAreaRight" b="textAreaBottom"/>
            <a:pathLst>
              <a:path w="21600" h="53597">
                <a:moveTo>
                  <a:pt x="3600" y="0"/>
                </a:moveTo>
                <a:arcTo wR="3600" hR="3600" stAng="16200000" swAng="-5400000"/>
                <a:lnTo>
                  <a:pt x="0" y="49997"/>
                </a:lnTo>
                <a:arcTo wR="3600" hR="3600" stAng="10800000" swAng="-5400000"/>
                <a:lnTo>
                  <a:pt x="18000" y="535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45720" y="2819520"/>
            <a:ext cx="912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生成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6120" y="2819520"/>
            <a:ext cx="1400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コマンド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0896480"/>
            <a:ext cx="335268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画素保持用アトム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　自由リンク管理　　　　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, $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1049120"/>
            <a:ext cx="4038480" cy="2361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7520" y="10667880"/>
            <a:ext cx="912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754-D2E7-41DE-AB97-DA5C33C69C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5-03-08T19:17:34Z</dcterms:modified>
  <cp:revision>93</cp:revision>
  <dc:subject/>
  <dc:title>PowerPoint Presentation</dc:title>
</cp:coreProperties>
</file>