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F41-7036-4301-9F69-E08348ADEB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の前に、全体の実行の流れのスライドが欲し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で走らせたランタイムに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プログラムをコンパイルし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シリアル経由で送っ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その入力データの生成は図のような流れで行な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基本的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処理系のコンパイル出力を利用し、それ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送れる形式に再変換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までの処理系とどういう関係にある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何行書い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かいたらどう良かっ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なくせるので、本質的にはリアルタイム向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問題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以外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可能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やるには複雑なデータ構造が必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毎、膜毎のアトム管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処理系のようなアトム生成による方法では、センサ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＋付加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で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少なくと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がルールに含まれることが多いため､必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使わ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使わない別方式を考えるか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実行時間を予測する方法が必要であ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A6F-8D57-42F0-A297-0220F6F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830-5655-4DA0-A70C-72211D3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1E9-5248-4024-AF2F-788A12F6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152-C65F-45ED-9BF2-9EF43317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CB6-22A1-4CC4-8488-DC885772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FA02-E04E-482D-BF5B-5661C07C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923-0E74-4001-8BEE-398B7ECF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51F-7D79-44DA-882B-EDD85F5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A0D2-28E8-4A46-9FE5-853225B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E313-6EE4-4C79-ADFE-04886C5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5EB-F850-4564-A017-1D4BF94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901-99B1-4598-80BD-52A6831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2F6F-6A25-4750-BA67-CA23262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02A0-BCFE-43C5-BA12-9288FB2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466-8C18-4DBD-82D7-34EAAF9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E339-0A95-4175-9F46-B2C39FE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5FE2-71B4-444E-8BEB-21490B60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A0C-BAA5-484C-9968-D52295A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52F-1A70-40EA-93D9-F01E08B6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739-2A27-4ED6-A36E-8AFC7858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673-416F-44F3-B00C-9F41901B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91C-F51A-4AF7-AFA0-A077A47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8CB-619D-47F6-AFA0-B779292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EC3-1A88-4C30-9482-8E2A4E0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C7A-F5B7-4643-B05F-8A0F388751CB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0599-51BE-4515-8D8C-AA70FED58EF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の設計と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4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年度修士論文発表資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2/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情報・ネットワーク専攻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36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147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5AB-3DEE-4326-A503-78B84F203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は「生成型システムアトムの生成」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即時生成 → 通常ルール適用の中断機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213372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22860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81480" y="22860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優先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5880" y="3581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この仕組み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114440" y="3276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562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146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2514600"/>
            <a:ext cx="38124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4952880"/>
            <a:ext cx="16765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適用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4952880"/>
            <a:ext cx="17524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未変更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5105520"/>
            <a:ext cx="129528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6172200"/>
            <a:ext cx="4572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適用終了後にイベント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5791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791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932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4384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94720" y="57913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83600" y="57913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4724280"/>
            <a:ext cx="1143000" cy="1219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70E-F91A-4DB9-B8F2-98D77DC010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71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209680"/>
            <a:ext cx="2895840" cy="35053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505320"/>
              <a:gd name="textAreaBottom" fmla="*/ 3364200 h 3505320"/>
            </a:gdLst>
            <a:ahLst/>
            <a:rect l="textAreaLeft" t="textAreaTop" r="textAreaRight" b="textAreaBottom"/>
            <a:pathLst>
              <a:path w="21600" h="26146">
                <a:moveTo>
                  <a:pt x="3600" y="0"/>
                </a:moveTo>
                <a:arcTo wR="3600" hR="3600" stAng="16200000" swAng="-5400000"/>
                <a:lnTo>
                  <a:pt x="0" y="22546"/>
                </a:lnTo>
                <a:arcTo wR="3600" hR="3600" stAng="10800000" swAng="-5400000"/>
                <a:lnTo>
                  <a:pt x="18000" y="2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5029200"/>
            <a:ext cx="2438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267080"/>
            <a:ext cx="24386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2040" y="4648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3276720"/>
            <a:ext cx="190512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362320"/>
            <a:ext cx="91440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3808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971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9400" y="3809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59436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581280"/>
            <a:ext cx="1066680" cy="20574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057400"/>
              <a:gd name="textAreaBottom" fmla="*/ 2005560 h 2057400"/>
            </a:gdLst>
            <a:ahLst/>
            <a:rect l="textAreaLeft" t="textAreaTop" r="textAreaRight" b="textAreaBottom"/>
            <a:pathLst>
              <a:path w="21600" h="41655">
                <a:moveTo>
                  <a:pt x="3600" y="0"/>
                </a:moveTo>
                <a:arcTo wR="3600" hR="3600" stAng="16200000" swAng="-5400000"/>
                <a:lnTo>
                  <a:pt x="0" y="38055"/>
                </a:lnTo>
                <a:arcTo wR="3600" hR="3600" stAng="10800000" swAng="-5400000"/>
                <a:lnTo>
                  <a:pt x="18000" y="4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05120" y="5333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9016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952880"/>
            <a:ext cx="914400" cy="533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2209680"/>
            <a:ext cx="35053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されたアト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につ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3429000"/>
            <a:ext cx="35816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のアトムを含む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リストとして保持）を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31240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3962520" cy="1600200"/>
          </a:xfrm>
          <a:prstGeom prst="wedgeRoundRectCallout">
            <a:avLst>
              <a:gd name="adj1" fmla="val -69152"/>
              <a:gd name="adj2" fmla="val -24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やタイマから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生成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自タスクで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9BE-FB61-45A9-B64D-DF351FB7CE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5360" y="113040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FCB-63F2-4F6D-BEA6-F1BDB3792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プログラム＆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45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モムービ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3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E82-459E-4B0D-9AB5-3DFEEEB9D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デモ：風上に向かって走る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076-E8F3-4161-8F72-51A7AB48BA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6108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本研究の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周期タスクや制御の記述方式の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、センサ入力、カメラ画像、モータ出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タスク並列動作と優先処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実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変換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言語、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処理系の出力するコードを再解釈、変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ランタイム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静的プログラム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: 5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モリ効率のよいデータ構造保持機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C65-74BA-4B92-9C45-174DB77D35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マ以外のイベントの補足・処理機能の追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が押された、メッセージを受信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高度な優先度とデッドラインの指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連処理の優先実行は、システムアトムのユーザ定義機能を実装すれば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言語制限や制御表現の見直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膜の有効性、アトム生成以外の制御表現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この研究を元に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制御やリアルタイム処理との関係について考えていきた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910-8D1D-424A-B226-B9B33C7696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リアルタイムとの関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＝イベントから予定時間内に決められた処理が行え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システムアトムのユーザ定義を含めれば）一連のルール適用の優先処理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処理を行うために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より複雑な優先度・デッドラインの設定と、スケジューリング機構、ルールの適用時間の計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命令の実行時間予測、もしく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用いないルール適用方式を考え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数々の問題の中で、優先処理の一方式を提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564-F498-4A63-8810-D9FD55A161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2B6-55A7-4FAD-B144-86283113EA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デモ２：赤い物に向かって進む車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517-16E2-4045-BDEB-D8D9155613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5029200"/>
            <a:ext cx="80010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プログラミング言語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61560" y="1692360"/>
            <a:ext cx="3716280" cy="825480"/>
            <a:chOff x="4561560" y="1692360"/>
            <a:chExt cx="3716280" cy="825480"/>
          </a:xfrm>
        </p:grpSpPr>
        <p:sp>
          <p:nvSpPr>
            <p:cNvPr id="111" name=""/>
            <p:cNvSpPr/>
            <p:nvPr/>
          </p:nvSpPr>
          <p:spPr>
            <a:xfrm>
              <a:off x="4561560" y="1692360"/>
              <a:ext cx="37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アトム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と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リンク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からな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グラフ構造が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膜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 で階層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95600" y="17686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667200" y="1768680"/>
              <a:ext cx="456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4920" y="2149560"/>
              <a:ext cx="576000" cy="36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11200" y="2666880"/>
            <a:ext cx="2680200" cy="1191240"/>
            <a:chOff x="5011200" y="2666880"/>
            <a:chExt cx="2680200" cy="1191240"/>
          </a:xfrm>
        </p:grpSpPr>
        <p:sp>
          <p:nvSpPr>
            <p:cNvPr id="116" name=""/>
            <p:cNvSpPr/>
            <p:nvPr/>
          </p:nvSpPr>
          <p:spPr>
            <a:xfrm>
              <a:off x="5011200" y="2666880"/>
              <a:ext cx="268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ルール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膜内の、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左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同じ構造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右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の形に書き換える規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6360" y="2743200"/>
              <a:ext cx="15242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左辺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右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920" y="1600200"/>
            <a:ext cx="3962160" cy="2408400"/>
            <a:chOff x="304920" y="1600200"/>
            <a:chExt cx="3962160" cy="2408400"/>
          </a:xfrm>
        </p:grpSpPr>
        <p:sp>
          <p:nvSpPr>
            <p:cNvPr id="119" name=""/>
            <p:cNvSpPr/>
            <p:nvPr/>
          </p:nvSpPr>
          <p:spPr>
            <a:xfrm>
              <a:off x="304920" y="1600200"/>
              <a:ext cx="3962160" cy="240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360" y="1736640"/>
              <a:ext cx="2049120" cy="1298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8880" y="1736640"/>
              <a:ext cx="1502640" cy="1981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4640" y="1896120"/>
              <a:ext cx="932040" cy="728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360" y="3240000"/>
              <a:ext cx="1776240" cy="61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1040" y="19414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7880" y="1873440"/>
              <a:ext cx="272880" cy="272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1040" y="2556360"/>
              <a:ext cx="116136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44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2428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272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20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732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736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568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4360" y="22150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96640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24640" y="2009880"/>
              <a:ext cx="2732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2283120"/>
              <a:ext cx="8197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0760" y="2078280"/>
              <a:ext cx="3416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7600" y="2419920"/>
              <a:ext cx="54612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900160" y="2419920"/>
              <a:ext cx="20484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90120" y="2966400"/>
              <a:ext cx="2048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0520" y="3171600"/>
              <a:ext cx="81972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892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736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1020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2200" y="276156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4040" y="337644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54040" y="3240000"/>
              <a:ext cx="6840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92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32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07560" y="3413520"/>
              <a:ext cx="272880" cy="273240"/>
            </a:xfrm>
            <a:custGeom>
              <a:avLst/>
              <a:gdLst>
                <a:gd name="textAreaLeft" fmla="*/ 13320 w 272880"/>
                <a:gd name="textAreaRight" fmla="*/ 259560 w 272880"/>
                <a:gd name="textAreaTop" fmla="*/ 13320 h 273240"/>
                <a:gd name="textAreaBottom" fmla="*/ 259920 h 27324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976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816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413520"/>
              <a:ext cx="273240" cy="273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7880" y="22150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34320" y="214668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9200" y="2488320"/>
              <a:ext cx="20484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85800" y="444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23880" y="5791320"/>
            <a:ext cx="5410080" cy="609120"/>
            <a:chOff x="1523880" y="5791320"/>
            <a:chExt cx="5410080" cy="609120"/>
          </a:xfrm>
        </p:grpSpPr>
        <p:sp>
          <p:nvSpPr>
            <p:cNvPr id="160" name=""/>
            <p:cNvSpPr/>
            <p:nvPr/>
          </p:nvSpPr>
          <p:spPr>
            <a:xfrm>
              <a:off x="3327120" y="5791320"/>
              <a:ext cx="1717200" cy="609120"/>
            </a:xfrm>
            <a:prstGeom prst="leftRightArrow">
              <a:avLst>
                <a:gd name="adj1" fmla="val 70241"/>
                <a:gd name="adj2" fmla="val 4252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計算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791320"/>
              <a:ext cx="180324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組込・分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44680" y="5791320"/>
              <a:ext cx="188928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超広域分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66560" y="5181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多様な計算環境を統一的に扱う（スケーラブ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600" y="4062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u="sng">
                <a:solidFill>
                  <a:srgbClr val="333399"/>
                </a:solidFill>
                <a:uFillTx/>
                <a:latin typeface="Tahoma"/>
              </a:rPr>
              <a:t>階層グラフ構造の書き換え＝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724280"/>
            <a:ext cx="129564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714-0B47-43F1-AA79-F8AB3304D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91120" y="5562720"/>
            <a:ext cx="3809880" cy="1143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研究の現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52388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の型づ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13372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作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657600"/>
            <a:ext cx="4191120" cy="1371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分散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計算ノードの膜による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ルールによる通信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61960" y="2057400"/>
            <a:ext cx="20574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05740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75212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21333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371600"/>
            <a:ext cx="26672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大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720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小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736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0000"/>
                </a:solidFill>
                <a:latin typeface="Tahoma"/>
              </a:rPr>
              <a:t>研究されていな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148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876920"/>
            <a:ext cx="464832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組込み制御のため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の実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6483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研究テー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91C-A759-48F7-9022-10E44511D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2640" y="3809520"/>
            <a:ext cx="827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の問題の解決方法の模索、方式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組み込み分野への適応性の解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今後の議論の礎となる実働環境の提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905120"/>
            <a:ext cx="4495680" cy="1828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利用可能なメモリが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対象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への即時対応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組み込み機器の特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14475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を考慮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を実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114800"/>
            <a:ext cx="6858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5638680"/>
            <a:ext cx="6705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本研究では、組み込み機器と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ボット制御システ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1DB-3EC3-4A88-859C-2F459C26F2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ロボット制御システム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b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大容量のメモ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々な入出力インターフェー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ライブラリによる制御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実装に適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MK3-top-sm" descr=""/>
          <p:cNvPicPr/>
          <p:nvPr/>
        </p:nvPicPr>
        <p:blipFill>
          <a:blip r:embed="rId1"/>
          <a:stretch/>
        </p:blipFill>
        <p:spPr>
          <a:xfrm>
            <a:off x="7302600" y="1371600"/>
            <a:ext cx="1765080" cy="2362320"/>
          </a:xfrm>
          <a:prstGeom prst="rect">
            <a:avLst/>
          </a:prstGeom>
          <a:ln w="0">
            <a:noFill/>
          </a:ln>
        </p:spPr>
      </p:pic>
      <p:pic>
        <p:nvPicPr>
          <p:cNvPr id="193" name="family-sm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1805040" cy="236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86400" y="3886200"/>
            <a:ext cx="350532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2KB ROM 1MB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bitCPU (68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種コントロー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, motor, sen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無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シリアル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メラ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, 60*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343400"/>
            <a:ext cx="106668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ソ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343400"/>
            <a:ext cx="91440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867280"/>
            <a:ext cx="13716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バイナ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181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80720" y="5181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43080" y="5257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03848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46880" y="375768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715000"/>
            <a:ext cx="1143000" cy="914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248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1360" y="5715000"/>
            <a:ext cx="141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DFC-CB7C-4D20-895B-4A627A6C1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設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省メモリデータ構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制御記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の優先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C85-F150-472E-85F3-03DEDFE30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言語の制限・記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を１個以上定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中にかけるも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、リンク、膜によるデータ構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セス文脈は引数なし、線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はガードで扱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直下にのみルール記述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ルール適用処理の簡素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各タスクのルール適用を平等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並列タスクの擬似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09680"/>
            <a:ext cx="2057400" cy="2895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95840"/>
              <a:gd name="textAreaBottom" fmla="*/ 2795400 h 2895840"/>
            </a:gdLst>
            <a:ahLst/>
            <a:rect l="textAreaLeft" t="textAreaTop" r="textAreaRight" b="textAreaBottom"/>
            <a:pathLst>
              <a:path w="21600" h="30401">
                <a:moveTo>
                  <a:pt x="3600" y="0"/>
                </a:moveTo>
                <a:arcTo wR="3600" hR="3600" stAng="16200000" swAng="-5400000"/>
                <a:lnTo>
                  <a:pt x="0" y="26801"/>
                </a:lnTo>
                <a:arcTo wR="3600" hR="3600" stAng="10800000" swAng="-5400000"/>
                <a:lnTo>
                  <a:pt x="18000" y="30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419720"/>
            <a:ext cx="1600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243828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24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14300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429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971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332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スク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A18-10AD-4627-984D-817CFC2C27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省メモリデータ構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650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）アトム、リンク、膜、ルールはオブジェク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ビットの有効活用により、アトム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ity+1 wor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必要なメモリ：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te -&gt; 8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4040" y="3633840"/>
            <a:ext cx="6162480" cy="3074400"/>
            <a:chOff x="2894040" y="3633840"/>
            <a:chExt cx="6162480" cy="3074400"/>
          </a:xfrm>
        </p:grpSpPr>
        <p:sp>
          <p:nvSpPr>
            <p:cNvPr id="225" name=""/>
            <p:cNvSpPr/>
            <p:nvPr/>
          </p:nvSpPr>
          <p:spPr>
            <a:xfrm>
              <a:off x="3857400" y="3816360"/>
              <a:ext cx="282744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57760" y="3999240"/>
              <a:ext cx="17985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om_id: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7400" y="4486320"/>
              <a:ext cx="257040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4040" y="497376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(30bit i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4040" y="564372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next free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4040" y="3999240"/>
              <a:ext cx="963360" cy="4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m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6320" y="3999240"/>
              <a:ext cx="12852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7800" y="56437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7400" y="3999240"/>
              <a:ext cx="9003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ity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27800" y="44863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4040" y="4486320"/>
              <a:ext cx="9633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s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27800" y="497376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4040" y="619128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at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27800" y="619128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69240" y="405936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情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120" y="454680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リンク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82200" y="5034240"/>
              <a:ext cx="187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整数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0400" y="5704200"/>
              <a:ext cx="22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空きノード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6248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への参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7760" y="3633840"/>
              <a:ext cx="109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52280" y="4419720"/>
            <a:ext cx="2438640" cy="1143000"/>
          </a:xfrm>
          <a:prstGeom prst="wedgeRoundRectCallout">
            <a:avLst>
              <a:gd name="adj1" fmla="val 62564"/>
              <a:gd name="adj2" fmla="val 19861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領域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ポインタタグ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5715000"/>
            <a:ext cx="2438640" cy="1066680"/>
          </a:xfrm>
          <a:prstGeom prst="wedgeRoundRectCallout">
            <a:avLst>
              <a:gd name="adj1" fmla="val 62435"/>
              <a:gd name="adj2" fmla="val -2991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スト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判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733920"/>
            <a:ext cx="2438640" cy="457200"/>
          </a:xfrm>
          <a:prstGeom prst="wedgeRoundRectCallout">
            <a:avLst>
              <a:gd name="adj1" fmla="val 61328"/>
              <a:gd name="adj2" fmla="val 136458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ドレス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3200400"/>
            <a:ext cx="5410440" cy="457200"/>
          </a:xfrm>
          <a:prstGeom prst="wedgeRoundRectCallout">
            <a:avLst>
              <a:gd name="adj1" fmla="val 6046"/>
              <a:gd name="adj2" fmla="val 122569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所属膜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200400"/>
            <a:ext cx="2971800" cy="457200"/>
          </a:xfrm>
          <a:prstGeom prst="wedgeRoundRectCallout">
            <a:avLst>
              <a:gd name="adj1" fmla="val -37018"/>
              <a:gd name="adj2" fmla="val 12222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名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842-0DD9-4096-8E50-C14A70BC7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487692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制御記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073480"/>
            <a:ext cx="14479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507348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53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88560" y="49212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4572000"/>
            <a:ext cx="14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出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左モータを出力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581280"/>
            <a:ext cx="75438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59920" y="32767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286000"/>
            <a:ext cx="75438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61360" y="198108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入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90920" y="2514600"/>
            <a:ext cx="6858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25146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0920" y="289548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ンサから値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取得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7782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778200"/>
            <a:ext cx="8380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006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80988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8098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7846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401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61840" y="41911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0×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毎に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36280" y="23623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27000" y="36576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5867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03480" y="5791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コマンド型システムアトム（ルール適用直後に上記処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03480" y="6324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生成型システムアトム（他アトムより優先してルール適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15200" y="14479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方針：定義済みアトムの生成により制御を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C0D-2632-4A35-97D9-BC1B00BE6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2-11T06:54:35Z</dcterms:modified>
  <cp:revision>83</cp:revision>
  <dc:subject/>
  <dc:title>PowerPoint Presentation</dc:title>
</cp:coreProperties>
</file>